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7FEA-3934-405B-B915-0555960215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A67-AC43-48D4-9C8F-C362EC929D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FF6-8F77-4FD1-995D-55646C34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78B-16F7-4CE5-AB80-9957C00E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4A6-3698-4FBB-8DA3-E323F3F0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E39-44AA-47FF-8341-4A6E8D0D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2748-1A5F-4419-96F7-FA34B29A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933F-B9B4-4D9A-8948-A32B7B2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49E2-461E-43FF-AC25-CB5C8A8F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B6C8-ABC6-4538-B3DA-054D891B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A2C7-3CD8-46C2-8C09-21884E1F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608D-83F1-45F7-9986-1044B700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9E2D-6AAD-4AB1-9712-56B563B8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4206-4FEB-4628-BE29-7A034879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AB1C-2AA5-4696-B236-6E8EBA4F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311E-0B78-4AE6-BE5E-E7131FA2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FFF7-90DD-4FE5-9E75-A7DD0CE2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0AD9-61F3-41B8-B1E1-2B1C1B95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0732-F613-44F1-878E-0496B07E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8CC1-72A9-4B76-A82F-4D5A2B58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3CB51-4465-4762-B805-EEEA70B5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19CC4-ED48-4743-AD65-FA6613C1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CE654-970E-47FA-88EE-13D1BFD4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14B4A-9824-40F3-8C17-DBAD1499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1D5-7E21-4FB5-8CA0-99A08D10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7A24-77DA-49DB-9F6F-941DB512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9C0B6-BF38-4E8E-A127-BBF74107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CCA2-C466-47C9-BA8C-D333A699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55E6-76A5-46C1-9741-EF00DC78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DFC2E-1DA7-4288-AF07-449BBEB2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A2C6-6D41-4992-B287-FA595201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7AE0C-1D88-41E0-A95F-4CDE5DC8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625B9-F48A-49D1-8CF4-B5ADFABB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BAE88-2818-487D-BF1A-2A2A37F0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7E13C-3B02-4AE2-9E45-1B7CCE76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D70-A8F6-4638-853F-F59233BB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391A5-0716-4B6A-B2C9-7F9F76EB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46A80-0524-4484-AC5E-3BF47A90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0927E-48E1-46CF-A6C5-CECF77E1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E6367-A6C7-4D3C-AF04-858CE3FD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954C2-2FC1-4E57-896A-F8D2C8D3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23D1E-72C2-4B1B-A4E4-1A6CD928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7E4B3-7237-4DFE-9908-A44B71BC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EAA01-7EDA-4C77-949C-872F2CC4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DA08-6C40-4696-8B20-7DBA604A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813-3D82-4122-B845-2D9A6E09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0F8-5016-4D76-918C-6BFD1CDA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FB0-05A2-46D1-B03A-140C4A81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0C2-69DC-4F5B-A6EF-B2997A8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3FA-3906-4885-9A1C-0333434E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0EBE-C377-44C1-98D0-DD37B444CF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5FFA-D64B-444C-9934-E5320E8C29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pSp>
        <p:nvGrpSpPr>
          <p:cNvPr id="49" name="Group 1990"/>
          <p:cNvGrpSpPr/>
          <p:nvPr/>
        </p:nvGrpSpPr>
        <p:grpSpPr>
          <a:xfrm>
            <a:off x="71280" y="1209600"/>
            <a:ext cx="8991720" cy="4219560"/>
            <a:chOff x="71280" y="1209600"/>
            <a:chExt cx="8991720" cy="4219560"/>
          </a:xfrm>
        </p:grpSpPr>
        <p:sp>
          <p:nvSpPr>
            <p:cNvPr id="50" name=""/>
            <p:cNvSpPr/>
            <p:nvPr/>
          </p:nvSpPr>
          <p:spPr>
            <a:xfrm>
              <a:off x="71280" y="1209600"/>
              <a:ext cx="2210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Greek Let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209600"/>
              <a:ext cx="26668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Call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48200" y="1209600"/>
              <a:ext cx="13017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Writ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49960" y="1209600"/>
              <a:ext cx="17557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Sou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05680" y="1209600"/>
              <a:ext cx="1057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o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280" y="1646280"/>
              <a:ext cx="1143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orm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14280" y="1646280"/>
              <a:ext cx="1067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Capi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1320" y="1646280"/>
              <a:ext cx="13716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In 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52920" y="1646280"/>
              <a:ext cx="12952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In Gree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48200" y="1646280"/>
              <a:ext cx="13017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Arial"/>
                </a:rPr>
                <a:t>Ι</a:t>
              </a: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n Engli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960" y="1646280"/>
              <a:ext cx="17557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05680" y="1646280"/>
              <a:ext cx="1057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280" y="2124000"/>
              <a:ext cx="11430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4280" y="2124000"/>
              <a:ext cx="106704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1320" y="2124000"/>
              <a:ext cx="137160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lph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52920" y="2124000"/>
              <a:ext cx="129528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ἀλφ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948200" y="2124000"/>
              <a:ext cx="130176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49960" y="2124000"/>
              <a:ext cx="17557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 as in 'hat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05680" y="2124000"/>
              <a:ext cx="10573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280" y="259560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14280" y="259560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1320" y="259560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52920" y="259560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Βη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8200" y="259560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49960" y="259560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s English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05680" y="259560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280" y="3065400"/>
              <a:ext cx="11430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14280" y="3065400"/>
              <a:ext cx="106704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81320" y="3065400"/>
              <a:ext cx="13716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G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2920" y="3065400"/>
              <a:ext cx="1295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γαμμ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48200" y="3065400"/>
              <a:ext cx="13017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49960" y="3065400"/>
              <a:ext cx="17557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hard g as in 'get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05680" y="3065400"/>
              <a:ext cx="10573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280" y="3795840"/>
              <a:ext cx="11430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14280" y="3795840"/>
              <a:ext cx="1067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281320" y="3795840"/>
              <a:ext cx="13716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Del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2920" y="3795840"/>
              <a:ext cx="129528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δελ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48200" y="3795840"/>
              <a:ext cx="13017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49960" y="3795840"/>
              <a:ext cx="1755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s English 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05680" y="3795840"/>
              <a:ext cx="10573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280" y="4257720"/>
              <a:ext cx="1143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4280" y="4257720"/>
              <a:ext cx="106704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1320" y="4257720"/>
              <a:ext cx="13716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Epsil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2920" y="4257720"/>
              <a:ext cx="12952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ἐψιλο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48200" y="4257720"/>
              <a:ext cx="13017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49960" y="4257720"/>
              <a:ext cx="17557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short e as in 'met'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5680" y="4257720"/>
              <a:ext cx="105732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280" y="4959360"/>
              <a:ext cx="11430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14280" y="4959360"/>
              <a:ext cx="106704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1320" y="4959360"/>
              <a:ext cx="1371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Z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52920" y="4959360"/>
              <a:ext cx="12952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ζητ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8200" y="4959360"/>
              <a:ext cx="1301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49960" y="4959360"/>
              <a:ext cx="17557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as English z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05680" y="4959360"/>
              <a:ext cx="1057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428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132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52920" y="1646280"/>
              <a:ext cx="0" cy="378288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4820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4996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05680" y="1209600"/>
              <a:ext cx="0" cy="4219560"/>
            </a:xfrm>
            <a:prstGeom prst="line">
              <a:avLst/>
            </a:prstGeom>
            <a:ln w="12600">
              <a:solidFill>
                <a:srgbClr val="e0b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280" y="164628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280" y="21240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128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063000" y="1209600"/>
              <a:ext cx="0" cy="421956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280" y="120960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280" y="5429160"/>
              <a:ext cx="899172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10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γγ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182"/>
          <p:cNvGrpSpPr/>
          <p:nvPr/>
        </p:nvGrpSpPr>
        <p:grpSpPr>
          <a:xfrm>
            <a:off x="5676840" y="5500800"/>
            <a:ext cx="2895840" cy="1189080"/>
            <a:chOff x="5676840" y="5500800"/>
            <a:chExt cx="2895840" cy="1189080"/>
          </a:xfrm>
        </p:grpSpPr>
        <p:sp>
          <p:nvSpPr>
            <p:cNvPr id="118" name=""/>
            <p:cNvSpPr/>
            <p:nvPr/>
          </p:nvSpPr>
          <p:spPr>
            <a:xfrm>
              <a:off x="5676840" y="5500800"/>
              <a:ext cx="838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15280" y="5500800"/>
              <a:ext cx="533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48440" y="5500800"/>
              <a:ext cx="457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05640" y="5500800"/>
              <a:ext cx="30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10560" y="5500800"/>
              <a:ext cx="3808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91440" y="5500800"/>
              <a:ext cx="3812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76840" y="5897520"/>
              <a:ext cx="8384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Sh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15280" y="5897520"/>
              <a:ext cx="5331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8440" y="5897520"/>
              <a:ext cx="45720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05640" y="5897520"/>
              <a:ext cx="304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810560" y="5897520"/>
              <a:ext cx="3808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91440" y="5897520"/>
              <a:ext cx="38124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6840" y="6292800"/>
              <a:ext cx="83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Gentium"/>
                </a:rPr>
                <a:t>Lo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15280" y="6292800"/>
              <a:ext cx="5331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48440" y="6292800"/>
              <a:ext cx="4572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05640" y="6292800"/>
              <a:ext cx="304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10560" y="6292800"/>
              <a:ext cx="380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191440" y="6292800"/>
              <a:ext cx="381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Gentium"/>
                </a:rPr>
                <a:t>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152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48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056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1056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1914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76840" y="589752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76840" y="6292800"/>
              <a:ext cx="8384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7684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72680" y="5500800"/>
              <a:ext cx="0" cy="118908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76840" y="550080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76840" y="6689880"/>
              <a:ext cx="2895840" cy="0"/>
            </a:xfrm>
            <a:prstGeom prst="line">
              <a:avLst/>
            </a:prstGeom>
            <a:ln w="1260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D5D7-B2BE-4578-8AAA-238A34B0C5F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9726-857E-47F8-BD70-ADE6A14CFE2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8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e0b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e0b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"/>
          <p:cNvSpPr/>
          <p:nvPr/>
        </p:nvSpPr>
        <p:spPr>
          <a:xfrm>
            <a:off x="-487440" y="247680"/>
            <a:ext cx="8988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316" name=""/>
          <p:cNvGraphicFramePr/>
          <p:nvPr/>
        </p:nvGraphicFramePr>
        <p:xfrm>
          <a:off x="71280" y="1209600"/>
          <a:ext cx="8991720" cy="4219560"/>
        </p:xfrm>
        <a:graphic>
          <a:graphicData uri="http://schemas.openxmlformats.org/drawingml/2006/table">
            <a:tbl>
              <a:tblPr/>
              <a:tblGrid>
                <a:gridCol w="1143000"/>
                <a:gridCol w="1067040"/>
                <a:gridCol w="1371600"/>
                <a:gridCol w="1295280"/>
                <a:gridCol w="1301760"/>
                <a:gridCol w="1755720"/>
                <a:gridCol w="1057320"/>
              </a:tblGrid>
              <a:tr h="436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p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ἀλφ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as in 'ha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Β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m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γαμ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 g as in 'g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δελ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 e as in 'me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ζ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Rectangle 5"/>
          <p:cNvSpPr/>
          <p:nvPr/>
        </p:nvSpPr>
        <p:spPr>
          <a:xfrm>
            <a:off x="214200" y="5443560"/>
            <a:ext cx="50720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998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γγ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(gg) is pronounced as 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000680" y="5500800"/>
          <a:ext cx="2895480" cy="1189080"/>
        </p:xfrm>
        <a:graphic>
          <a:graphicData uri="http://schemas.openxmlformats.org/drawingml/2006/table">
            <a:tbl>
              <a:tblPr/>
              <a:tblGrid>
                <a:gridCol w="838080"/>
                <a:gridCol w="533520"/>
                <a:gridCol w="457200"/>
                <a:gridCol w="304560"/>
                <a:gridCol w="381240"/>
                <a:gridCol w="380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>
                      <a:noFill/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Slide Number Placeholder 8"/>
          <p:cNvSpPr/>
          <p:nvPr/>
        </p:nvSpPr>
        <p:spPr>
          <a:xfrm>
            <a:off x="7010280" y="6286680"/>
            <a:ext cx="19908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CA94-E4CE-4438-BB1D-56A3993EE474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142920" y="1467000"/>
          <a:ext cx="8839080" cy="2819160"/>
        </p:xfrm>
        <a:graphic>
          <a:graphicData uri="http://schemas.openxmlformats.org/drawingml/2006/table">
            <a:tbl>
              <a:tblPr/>
              <a:tblGrid>
                <a:gridCol w="2313000"/>
                <a:gridCol w="2477880"/>
                <a:gridCol w="4048200"/>
              </a:tblGrid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glish Equival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d 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on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 of sent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,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 baseline="40000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.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bove the lin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; and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jor break within a senten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;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stio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Rectangle 2"/>
          <p:cNvSpPr/>
          <p:nvPr/>
        </p:nvSpPr>
        <p:spPr>
          <a:xfrm>
            <a:off x="428760" y="4572000"/>
            <a:ext cx="7715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nal vowel of a word normally dropped (replaced with </a:t>
            </a:r>
            <a:r>
              <a:rPr b="0" lang="el-GR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if next word begins with vow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entium"/>
                <a:ea typeface="Times New Roman"/>
              </a:rPr>
              <a:t>	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   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ἀλλα ἐγω                ἀλλ’ ἐγ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6 PUNCTU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5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74" name="Right Arrow 6"/>
          <p:cNvSpPr/>
          <p:nvPr/>
        </p:nvSpPr>
        <p:spPr>
          <a:xfrm>
            <a:off x="3824280" y="593568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6B7AA195-D493-4BAD-8D44-448A00020D0E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81000" y="1143000"/>
          <a:ext cx="8991720" cy="38955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Ι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ἠ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 e as in 'ob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y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θη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ἰω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s in 'hi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p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καππ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mb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λαμβδ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μ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24" name="Rectangle 5"/>
          <p:cNvSpPr/>
          <p:nvPr/>
        </p:nvSpPr>
        <p:spPr>
          <a:xfrm>
            <a:off x="285840" y="5084640"/>
            <a:ext cx="91440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Pronunciation of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varies - some say 'b</a:t>
            </a:r>
            <a:r>
              <a:rPr b="0" lang="en-GB" sz="1700" spc="-1" strike="noStrike" u="sng">
                <a:solidFill>
                  <a:srgbClr val="ffffff"/>
                </a:solidFill>
                <a:uFillTx/>
                <a:latin typeface="Arial"/>
              </a:rPr>
              <a:t>ea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r' or 'hon</a:t>
            </a:r>
            <a:r>
              <a:rPr b="0" lang="en-GB" sz="1700" spc="-1" strike="noStrike" u="sng">
                <a:solidFill>
                  <a:srgbClr val="ffffff"/>
                </a:solidFill>
                <a:uFillTx/>
                <a:latin typeface="Arial"/>
              </a:rPr>
              <a:t>ey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Gentium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ι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can sometimes behave as a consonant when it begins a wo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κ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(k) and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χ</a:t>
            </a: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(kh).</a:t>
            </a: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8"/>
          <p:cNvSpPr/>
          <p:nvPr/>
        </p:nvSpPr>
        <p:spPr>
          <a:xfrm>
            <a:off x="7000920" y="6278400"/>
            <a:ext cx="2044800" cy="36540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0b3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:Grammar 2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81000" y="1170000"/>
          <a:ext cx="8991720" cy="361620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ν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ξ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ic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ὀμικρ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ort o as in 'n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ῥ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 or 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or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Σιγμ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30" name="Rectangle 253"/>
          <p:cNvSpPr/>
          <p:nvPr/>
        </p:nvSpPr>
        <p:spPr>
          <a:xfrm>
            <a:off x="104760" y="4824360"/>
            <a:ext cx="86104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SzPct val="114000"/>
              <a:buFont typeface="Gentium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ν</a:t>
            </a:r>
            <a:r>
              <a:rPr b="0" lang="el-G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looks like an English v but is an n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ῥ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should really be ‘aspirated’ (i.e. pronounced 'rh'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ρ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looks like an English p but is an r (the Greek p is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π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igma is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σ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rmally, but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ς</a:t>
            </a:r>
            <a:r>
              <a:rPr b="0" lang="en-GB" sz="1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if it is the last letter in a wor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6"/>
          <p:cNvSpPr/>
          <p:nvPr/>
        </p:nvSpPr>
        <p:spPr>
          <a:xfrm>
            <a:off x="7000920" y="6286680"/>
            <a:ext cx="200016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C603FB2B-A75E-4556-9E6E-31EC5F71319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81000" y="1143000"/>
          <a:ext cx="8991720" cy="3830760"/>
        </p:xfrm>
        <a:graphic>
          <a:graphicData uri="http://schemas.openxmlformats.org/drawingml/2006/table">
            <a:tbl>
              <a:tblPr/>
              <a:tblGrid>
                <a:gridCol w="1143000"/>
                <a:gridCol w="1066680"/>
                <a:gridCol w="1371600"/>
                <a:gridCol w="1295640"/>
                <a:gridCol w="1301760"/>
                <a:gridCol w="1755720"/>
                <a:gridCol w="105732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k 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r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τ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psil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ὐψιλο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φ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 or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English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χ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 or k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 as in lo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ψ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in li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ὠμεγ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ng o as in 't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35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14200" y="5159520"/>
            <a:ext cx="86439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are seven vowels in Gre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re is a difference in sound between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κ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χ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063"/>
              </a:spcBef>
              <a:buClr>
                <a:srgbClr val="ffffff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</a:rPr>
              <a:t>υ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 has become a y in English words derived from Greek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590301F1-7FD2-45D3-A88F-EFDC7030F3E3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THE LETTERS OF THE GREEK ALPHAB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41" name="Rectangle 5"/>
          <p:cNvSpPr/>
          <p:nvPr/>
        </p:nvSpPr>
        <p:spPr>
          <a:xfrm>
            <a:off x="428760" y="4541760"/>
            <a:ext cx="74293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063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δ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ζ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θ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λ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ξ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stretch above the line (and the central stroke of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φ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ψ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in many people's handwriting). Contrary to English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κ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τ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do no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β</a:t>
            </a:r>
            <a:r>
              <a:rPr b="0" lang="en-GB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, 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γ, ζ, η, μ, ξ, ρ, ς, φ, χ</a:t>
            </a:r>
            <a:r>
              <a:rPr b="0" lang="el-GR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,</a:t>
            </a:r>
            <a:r>
              <a:rPr b="0" lang="el-GR" sz="1700" spc="-1" strike="noStrike">
                <a:solidFill>
                  <a:srgbClr val="ffffff"/>
                </a:solidFill>
                <a:latin typeface="Gentium"/>
                <a:ea typeface="Lucida Sans Unicode"/>
              </a:rPr>
              <a:t> ψ</a:t>
            </a:r>
            <a:r>
              <a:rPr b="0" lang="en-GB" sz="17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 </a:t>
            </a: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have 'tails' which stretch below the li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285840" y="2179800"/>
            <a:ext cx="8572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ffffff"/>
                </a:solidFill>
                <a:latin typeface="Gentium"/>
              </a:rPr>
              <a:t>αβγδεζηθικλμνξοπρσςτυφχψω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8"/>
          <p:cNvSpPr/>
          <p:nvPr/>
        </p:nvSpPr>
        <p:spPr>
          <a:xfrm>
            <a:off x="357120" y="2513160"/>
            <a:ext cx="8215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10"/>
          <p:cNvSpPr/>
          <p:nvPr/>
        </p:nvSpPr>
        <p:spPr>
          <a:xfrm>
            <a:off x="357120" y="2844720"/>
            <a:ext cx="8215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6EC9BDCA-8F73-44D3-AD47-71385CE5CBFB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6"/>
          <p:cNvSpPr/>
          <p:nvPr/>
        </p:nvSpPr>
        <p:spPr>
          <a:xfrm>
            <a:off x="1143000" y="3143160"/>
            <a:ext cx="6572160" cy="1000080"/>
          </a:xfrm>
          <a:prstGeom prst="rect">
            <a:avLst/>
          </a:prstGeom>
          <a:noFill/>
          <a:ln w="25560">
            <a:solidFill>
              <a:srgbClr val="e0b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49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BREATHIN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24000" y="1319040"/>
          <a:ext cx="8534160" cy="1324080"/>
        </p:xfrm>
        <a:graphic>
          <a:graphicData uri="http://schemas.openxmlformats.org/drawingml/2006/table">
            <a:tbl>
              <a:tblPr/>
              <a:tblGrid>
                <a:gridCol w="2286000"/>
                <a:gridCol w="1752480"/>
                <a:gridCol w="1295280"/>
                <a:gridCol w="32004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ug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‘</a:t>
                      </a: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ἁγιο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hagios - holy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ooth Breath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ἀγγελος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angelos - ange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Rectangle 5"/>
          <p:cNvSpPr/>
          <p:nvPr/>
        </p:nvSpPr>
        <p:spPr>
          <a:xfrm>
            <a:off x="1143000" y="3286080"/>
            <a:ext cx="6500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ry Greek vowel (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α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ε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η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ι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ο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υ</a:t>
            </a:r>
            <a:r>
              <a:rPr b="0" lang="en-GB" sz="2400" spc="-1" strike="noStrike">
                <a:solidFill>
                  <a:srgbClr val="ffffff"/>
                </a:solidFill>
                <a:latin typeface="Gentium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Gentium"/>
              </a:rPr>
              <a:t>ω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at the beginning of a word must have a brea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357120" y="4214880"/>
            <a:ext cx="81439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reathings are written on top -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ἀ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ἁ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ἐ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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ἑ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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ἠ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ἡ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ἰ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ἱ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ὀ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ὁ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ὐ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ὑ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ὠ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ὡ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Gent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 breathings are not optional just because they are not pronou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0080" indent="-10008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ρ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s the first letter, it also must carry a rough breathing </a:t>
            </a:r>
            <a:r>
              <a:rPr b="0" lang="el-GR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ῥ</a:t>
            </a:r>
            <a:r>
              <a:rPr b="0" lang="en-GB" sz="2000" spc="-1" strike="noStrike">
                <a:solidFill>
                  <a:srgbClr val="ffffff"/>
                </a:solidFill>
                <a:latin typeface="Gentium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933E4D5E-4371-46A2-AB45-85E37309608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56" name="TextBox 3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CAPITAL LETT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4"/>
          <p:cNvSpPr/>
          <p:nvPr/>
        </p:nvSpPr>
        <p:spPr>
          <a:xfrm>
            <a:off x="428760" y="2357280"/>
            <a:ext cx="83581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ffffff"/>
                </a:solidFill>
                <a:latin typeface="Gentium"/>
              </a:rPr>
              <a:t>Η, Ρ, Υ, Χ </a:t>
            </a:r>
            <a:r>
              <a:rPr b="0" lang="en-GB" sz="5200" spc="-1" strike="noStrike">
                <a:solidFill>
                  <a:srgbClr val="ffffff"/>
                </a:solidFill>
                <a:latin typeface="Arial"/>
              </a:rPr>
              <a:t>vs. English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5200" spc="-1" strike="noStrike">
                <a:solidFill>
                  <a:srgbClr val="ffffff"/>
                </a:solidFill>
                <a:latin typeface="Gentium"/>
              </a:rPr>
              <a:t>Γ, Δ, Μ, Ξ, Σ, Ω </a:t>
            </a:r>
            <a:r>
              <a:rPr b="0" lang="en-GB" sz="5200" spc="-1" strike="noStrike">
                <a:solidFill>
                  <a:srgbClr val="ffffff"/>
                </a:solidFill>
                <a:latin typeface="Arial"/>
              </a:rPr>
              <a:t>vs. lower case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25748D58-7C41-4CD2-AEB7-A12E067DD228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-282600" y="208080"/>
            <a:ext cx="862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 DIPHTHONGS AND IOTA SUB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graphicFrame>
        <p:nvGraphicFramePr>
          <p:cNvPr id="362" name=""/>
          <p:cNvGraphicFramePr/>
          <p:nvPr/>
        </p:nvGraphicFramePr>
        <p:xfrm>
          <a:off x="1071720" y="1876320"/>
          <a:ext cx="7035480" cy="4052880"/>
        </p:xfrm>
        <a:graphic>
          <a:graphicData uri="http://schemas.openxmlformats.org/drawingml/2006/table">
            <a:tbl>
              <a:tblPr/>
              <a:tblGrid>
                <a:gridCol w="1049040"/>
                <a:gridCol w="5986440"/>
              </a:tblGrid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ai' as in Th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, or the English word 'eye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 w="13680">
                      <a:solidFill>
                        <a:srgbClr val="e0b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ei' as in v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, or the 'ay' in s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i as in 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υ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ui' as in q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ui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α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au' as in s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a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kraut, or the 'ow' in h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ou' as in s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, or the 'oo' in 'h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oo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ευ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 /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  <a:ea typeface="Times New Roman"/>
                        </a:rPr>
                        <a:t>η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'eu' as in f</a:t>
                      </a:r>
                      <a:r>
                        <a:rPr b="0" lang="en-GB" sz="20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u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, or the English word 'you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s - the iota subscript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-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ῃ ῳ ᾳ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ffffff"/>
                          </a:solidFill>
                          <a:latin typeface="Gentium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0b300"/>
                      </a:solidFill>
                    </a:lnL>
                    <a:lnR w="13680">
                      <a:solidFill>
                        <a:srgbClr val="e0b300"/>
                      </a:solidFill>
                    </a:lnR>
                    <a:lnT>
                      <a:noFill/>
                    </a:lnT>
                    <a:lnB w="13680">
                      <a:solidFill>
                        <a:srgbClr val="e0b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AC7649C9-A678-4D94-A65B-CE22CE588D1F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981000" y="2593800"/>
            <a:ext cx="7162920" cy="167796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f"/>
                </a:solidFill>
                <a:latin typeface="Gentium"/>
              </a:rPr>
              <a:t>Breathings – Essentia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ffffff"/>
                </a:solidFill>
                <a:latin typeface="Gentium"/>
              </a:rPr>
              <a:t>Accents – Unimportan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alphaomega.jpg"/>
          <p:cNvPicPr/>
          <p:nvPr/>
        </p:nvPicPr>
        <p:blipFill>
          <a:blip r:embed="rId1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367" name="TextBox 4"/>
          <p:cNvSpPr/>
          <p:nvPr/>
        </p:nvSpPr>
        <p:spPr>
          <a:xfrm>
            <a:off x="-282600" y="208080"/>
            <a:ext cx="86281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5 ACCENTS AND STRES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6"/>
          <p:cNvSpPr/>
          <p:nvPr/>
        </p:nvSpPr>
        <p:spPr>
          <a:xfrm>
            <a:off x="6858000" y="6299280"/>
            <a:ext cx="2003400" cy="365040"/>
          </a:xfrm>
          <a:prstGeom prst="rect">
            <a:avLst/>
          </a:prstGeom>
          <a:noFill/>
          <a:ln w="9360">
            <a:solidFill>
              <a:srgbClr val="fee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1:Grammar </a:t>
            </a:r>
            <a:fld id="{4927F749-C972-4DE1-95E9-867C3DA461C0}" type="slidenum">
              <a:rPr b="0" lang="en-GB" sz="1800" spc="-1" strike="noStrike">
                <a:solidFill>
                  <a:srgbClr val="e0b300"/>
                </a:solidFill>
                <a:latin typeface="Arial"/>
              </a:rPr>
              <a:t>&lt;number&gt;</a:t>
            </a:fld>
            <a:r>
              <a:rPr b="0" lang="en-GB" sz="1800" spc="-1" strike="noStrike">
                <a:solidFill>
                  <a:srgbClr val="e0b300"/>
                </a:solidFill>
                <a:latin typeface="Arial"/>
              </a:rPr>
              <a:t>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15:43:53Z</dcterms:created>
  <dc:creator>Sarah</dc:creator>
  <dc:description/>
  <dc:language>en-US</dc:language>
  <cp:lastModifiedBy>Sarah</cp:lastModifiedBy>
  <dcterms:modified xsi:type="dcterms:W3CDTF">2009-03-02T22:22:50Z</dcterms:modified>
  <cp:revision>66</cp:revision>
  <dc:subject/>
  <dc:title>Slide 1</dc:title>
</cp:coreProperties>
</file>